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FE76-C722-4BBB-9AC9-18672E6E8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 is an action or reaction to external or internal stim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6F12-D8DC-43AC-B01B-3BEC3617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2780-65F4-43E7-9004-AC640956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CAFE-04AA-4061-A92D-EE3F4D22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86EF-4522-480D-8C3D-71CD8FAE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39E1-73A0-43BB-A291-7A432052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39C5-1D3F-449B-A794-3FEF892F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6FE1-14B5-4BC1-9E81-467AC10A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4CF2-8DA1-4869-ABCB-AFF969A0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A874-4105-42AF-8C91-06828014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B2B9-9016-4169-8B65-FC5A8DC1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9B4F-FA5B-4841-8505-8AAA39B9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A7F4-4D84-4B6F-8716-B1EC7088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7D07-5DC7-4EBB-963E-1D20A71D0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97240" y="50400"/>
            <a:ext cx="7542000" cy="641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HAVIO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1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di Baile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havior Specialis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lker County Sch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97240" y="50760"/>
            <a:ext cx="754200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tter pl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984400" y="1438200"/>
            <a:ext cx="494352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97240" y="50760"/>
            <a:ext cx="754200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2370240" y="1438200"/>
            <a:ext cx="732456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370240" y="866880"/>
            <a:ext cx="728172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97240" y="50760"/>
            <a:ext cx="754200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e a behavior refer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500200" y="2192400"/>
            <a:ext cx="74390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lp is on the way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803680" y="3089160"/>
            <a:ext cx="3324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97240" y="1235160"/>
            <a:ext cx="75420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havior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500200" y="2192400"/>
            <a:ext cx="74390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ehavio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n. The manner in which one behaves. The actions or reactions of a person or animal in response to external or internal stimuli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97240" y="50400"/>
            <a:ext cx="7542000" cy="18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rnal Factor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ysical Set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500200" y="2192400"/>
            <a:ext cx="74390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rules, routines, and procedures pos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rules, routines, and procedures easy to se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rules clear and understand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unnecessary and distracting items removed from view and reac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ll materials organized and easily accessi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instructional areas of the classroom have clear, visual boundaries for stud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46400" y="50400"/>
            <a:ext cx="754056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rnal Factor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500200" y="2192400"/>
            <a:ext cx="74390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daily schedule of activities posted and regularly review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ransitions and non-instructional activities posted and regularly review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ime allowed for physical movement by stud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each student spend most of his/her time engaged in active learn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97240" y="50760"/>
            <a:ext cx="754200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rnal Factors:Classroom Discipline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500200" y="2420640"/>
            <a:ext cx="743904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classroom rules positively state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the number of rules limited to no more than 5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classroom rules and routines taugh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commands and directions given using effective command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ing question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one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ng what to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97240" y="50760"/>
            <a:ext cx="7542000" cy="13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room Discipline Plan cont’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500200" y="2192400"/>
            <a:ext cx="74390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a specific behavioral praise provided at a rate of 4 positives to every 1 corrective statemen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consequences for rule violations explained and reviewed regularl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the consequences delivered in a calm, matter-or-fact mann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transitions and non-instructional activities posted and regularly reviewe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each student spend most of his/her time engaged in active learning activities, with little or no unstructured tim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97240" y="50760"/>
            <a:ext cx="754200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l factors/motivat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500200" y="2192400"/>
            <a:ext cx="74390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tention see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scape/avoida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bsessive/compulsi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ear or phobic response to specific stimul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72920" y="812880"/>
            <a:ext cx="754236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what now? Data Col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031840" y="1778040"/>
            <a:ext cx="736632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72920" y="812880"/>
            <a:ext cx="754236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collection: identify the 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676600" y="3098880"/>
            <a:ext cx="7439040" cy="36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ame the top three behavio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gression-hits other stud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ntrums- cries and falls to the gro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respectful-says no to the teac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NGEP</cp:lastModifiedBy>
  <dcterms:modified xsi:type="dcterms:W3CDTF">2011-11-14T21:38:16Z</dcterms:modified>
  <cp:revision>1</cp:revision>
  <dc:subject/>
  <dc:title>PowerPoint Presentation</dc:title>
</cp:coreProperties>
</file>