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E1C5-507A-4E5A-9F8E-AFB52BB5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is an action or reaction to external or internal stim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8EC-A2E9-40EE-BAAF-2FD687ED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5A8-01CA-452F-BFCC-D8BF8F4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1DA-62B9-4021-A869-BEAB8980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CF6-513C-4443-B589-BBE85343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3E9-769E-4152-A312-60FD398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2B2-2D37-4417-B99D-95C8018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0CC-3A56-471B-A860-68A6357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2D1-0607-476F-9A0E-25EC83CD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D5E-D283-4D48-9893-7EF411A1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DF6-31B5-4342-B8E6-D4B1184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353-2685-4F42-8DC3-83A9B0D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F5A-EEC3-4A99-B767-8592B24A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ADFA-2354-43A9-9B5C-4D474790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64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i Bail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Specia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 Count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84400" y="1438200"/>
            <a:ext cx="49435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70240" y="1438200"/>
            <a:ext cx="73245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70240" y="866880"/>
            <a:ext cx="72817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a behavior refe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is on the way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03680" y="3089160"/>
            <a:ext cx="3324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7240" y="1235160"/>
            <a:ext cx="7542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. The manner in which one behaves. The actions or reactions of a person or animal in response to external or internal stimul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po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easy to s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 clear and understand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nnecessary and distracting items removed from view and r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materials organized and easily acce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nstructional areas of the classroom have clear, visual boundaries for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46400" y="50400"/>
            <a:ext cx="75405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aily schedule of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ime allowed for physical movement by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Classroom Disciplin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0200" y="2420640"/>
            <a:ext cx="743904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positively stat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number of rules limited to no more than 5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and routines taugh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mmands and directions given using effective comma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ques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ng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 Discipline Pla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pecific behavioral praise provided at a rate of 4 positives to every 1 corrective state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nsequences for rule violations explained and reviewed regularl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nsequences delivered in a calm, matter-or-fact mann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 activities, with little or no unstructured tim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actors/motiva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cape/avoi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ssive/compul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r or phobic response to specific stimul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now? Data Col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31840" y="1778040"/>
            <a:ext cx="736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: identify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76600" y="3098880"/>
            <a:ext cx="743904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 the top three behavi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ssion-hits othe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ntrums- cries and falls to the 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respectful-says no to the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GEP</cp:lastModifiedBy>
  <dcterms:modified xsi:type="dcterms:W3CDTF">2011-11-14T21:38:16Z</dcterms:modified>
  <cp:revision>1</cp:revision>
  <dc:subject/>
  <dc:title>PowerPoint Presentation</dc:title>
</cp:coreProperties>
</file>