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1EB2-0BD9-4D5D-A596-C40AE324C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is an action or reaction to external or internal stim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4BBF-03A8-4421-878A-22D1FE95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58C-90B0-4346-9F3B-BBAC2441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8F7-C49E-4237-B2D8-56601BF8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F24-22A6-452C-AF27-A51BE4FB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C116-8EE0-4F31-882F-AD957941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9CA-1AB0-4AFE-B3F3-2377354C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1E6-5102-4913-9C12-1AA4C8C9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9B5-4156-4DFD-B1ED-3A3AC829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1F43-4ED9-47B9-B49D-087A2CE8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0B6-7230-4204-BC77-B4485AD3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976-A999-4626-9B06-7E850F51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F14-7535-41A9-AE60-47EAC324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142E-D003-40C3-9A45-49182307A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97240" y="50400"/>
            <a:ext cx="7542000" cy="64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HAVIO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1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di Baile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havior Specialis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lker County Sch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tter pl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984400" y="1438200"/>
            <a:ext cx="494352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370240" y="1438200"/>
            <a:ext cx="732456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370240" y="866880"/>
            <a:ext cx="728172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e a behavior refer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lp is on the way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803680" y="3089160"/>
            <a:ext cx="3324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97240" y="1235160"/>
            <a:ext cx="75420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havior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ehavio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. The manner in which one behaves. The actions or reactions of a person or animal in response to external or internal stimuli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97240" y="50400"/>
            <a:ext cx="7542000" cy="18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actor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ysical S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rules, routines, and procedures pos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rules, routines, and procedures easy to se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rules clear and understand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nnecessary and distracting items removed from view and rea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ll materials organized and easily accessi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instructional areas of the classroom have clear, visual boundaries for stud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46400" y="50400"/>
            <a:ext cx="754056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actor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aily schedule of activities posted and regularly review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ransitions and non-instructional activities posted and regularly review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ime allowed for physical movement by stud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each student spend most of his/her time engaged in active lear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Factors:Classroom Discipline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500200" y="2420640"/>
            <a:ext cx="743904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classroom rules positively stat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the number of rules limited to no more than 5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classroom rules and routines taugh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commands and directions given using effective comman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ing question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one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ng what to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13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room Discipline Plan cont’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a specific behavioral praise provided at a rate of 4 positives to every 1 corrective statemen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consequences for rule violations explained and reviewed regularl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he consequences delivered in a calm, matter-or-fact mann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ransitions and non-instructional activities posted and regularly review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each student spend most of his/her time engaged in active learning activities, with little or no unstructured tim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97240" y="50760"/>
            <a:ext cx="754200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l factors/motiva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500200" y="2192400"/>
            <a:ext cx="74390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tention see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cape/avoid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sessive/compuls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ar or phobic response to specific stimul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72920" y="812880"/>
            <a:ext cx="754236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what now? Data Col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031840" y="1778040"/>
            <a:ext cx="736632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9040" y="7257240"/>
            <a:ext cx="16812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/14/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3800" cy="7620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9280" y="635040"/>
            <a:ext cx="1123920" cy="1101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72920" y="812880"/>
            <a:ext cx="754236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collection: identify the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676600" y="3098880"/>
            <a:ext cx="7439040" cy="36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ame the top three behavi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gression-hits other stud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ntrums- cries and falls to the gr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respectful-says no to the teac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NGEP</cp:lastModifiedBy>
  <dcterms:modified xsi:type="dcterms:W3CDTF">2011-11-14T21:38:16Z</dcterms:modified>
  <cp:revision>1</cp:revision>
  <dc:subject/>
  <dc:title>PowerPoint Presentation</dc:title>
</cp:coreProperties>
</file>