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3C8-FA04-4E24-85CC-59D81D413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is an action or reaction to external or internal stim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720-5C1E-44DE-8448-2B15D049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46C-D280-45D5-A1F4-8D08B744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6D9-1411-4C55-9301-0BDE813B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522-CC15-41A1-AC3D-B13538D8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93B-421C-4E8E-8759-6F36F2EF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F4A-BF42-462C-AE8B-C57FC068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AA4-4F8D-4BFF-ACD6-73E130E0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562-4D90-4538-9E0D-1D66F6AA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6A8-0EA6-4FB9-BBD9-1F75B73F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D17-20CA-48E2-9A32-32DD2AF7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2C2-9BD1-4346-A424-3113033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338-9E33-4737-BDD5-A64FEEB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0E2D-F414-4BA7-B8DD-2A5FEDE82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97240" y="50400"/>
            <a:ext cx="7542000" cy="64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1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i Bail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 Specia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r County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984400" y="1438200"/>
            <a:ext cx="494352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370240" y="1438200"/>
            <a:ext cx="73245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370240" y="866880"/>
            <a:ext cx="728172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a behavior refer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 is on the way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803680" y="3089160"/>
            <a:ext cx="3324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97240" y="1235160"/>
            <a:ext cx="75420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. The manner in which one behaves. The actions or reactions of a person or animal in response to external or internal stimul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97240" y="50400"/>
            <a:ext cx="754200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, routines, and procedures po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, routines, and procedures easy to s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 clear and understand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nnecessary and distracting items removed from view and re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materials organized and easily acces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nstructional areas of the classroom have clear, visual boundaries for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46400" y="50400"/>
            <a:ext cx="754056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aily schedule of activities posted and regularly revie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ransitions and non-instructional activities posted and regularly revie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ime allowed for physical movement by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each student spend most of his/her time engaged in active lea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Classroom Discipline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00200" y="2420640"/>
            <a:ext cx="743904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lassroom rules positively stat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number of rules limited to no more than 5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lassroom rules and routines taugh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ommands and directions given using effective comma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ing ques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ng what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3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room Discipline Plan cont’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 specific behavioral praise provided at a rate of 4 positives to every 1 corrective statem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onsequences for rule violations explained and reviewed regularl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consequences delivered in a calm, matter-or-fact mann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ransitions and non-instructional activities posted and regularly review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each student spend most of his/her time engaged in active learning activities, with little or no unstructured tim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actors/motiva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cape/avoid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sessive/compuls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r or phobic response to specific stimul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72920" y="812880"/>
            <a:ext cx="75423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 now? Data Col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031840" y="1778040"/>
            <a:ext cx="73663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72920" y="812880"/>
            <a:ext cx="754236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llection: identify th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76600" y="3098880"/>
            <a:ext cx="743904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me the top three behavi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ssion-hits other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ntrums- cries and falls to the 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respectful-says no to the tea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NGEP</cp:lastModifiedBy>
  <dcterms:modified xsi:type="dcterms:W3CDTF">2011-11-14T21:38:16Z</dcterms:modified>
  <cp:revision>1</cp:revision>
  <dc:subject/>
  <dc:title>PowerPoint Presentation</dc:title>
</cp:coreProperties>
</file>