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307-79A6-431F-BDF2-E6F6D651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7A4-99D7-4DC1-8DAE-352DA393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6AC-582A-4F13-979D-4CD50021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9B5-2438-4F48-8124-DDDC2161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4AC-8C8E-402F-8106-407594AF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FB0-AD9B-4E5D-AE43-399289C0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DDD-E9C8-4C00-A824-D291EC45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615F-6A50-4281-BB05-1F1CF693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D14-E9F4-489D-9895-6914AA0C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9CE-E357-4F39-94A8-072AF470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86D-341F-4C96-9156-15C87C9B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21F-2700-4DDC-B4EF-DC112897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C4A7-018B-4D80-A922-2D4A80663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indS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training curriculum that is efficient and effective in creating and maintaining the safest possible environment, both emotionally and physically, for everyon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k Pro-Action vs. Re-A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is essential in effectively managing a crisi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good judgment in not under reacting or over rea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eachers/staff and students should develop specific pro-action strategies relative to creating a saf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t-up Everyone For Succes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chieve a “culture of prevention”, everyone involved must establish and implement “customized strategies” for creating safe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and teamwork are essential ingre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ust be empowered to become their own risk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n Steps for Defeating Bias and Overcoming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emotional instead of emotional requests (control your b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v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a question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a saf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ey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reques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one of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co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tart requests than stop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sis Communic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is is defined as a decisive or critical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skills, both verbal and nonverbal, are your most powerful tools for preventing aggressiv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remain calm, aware and respectful at times when it can be difficult to accomplish just on of the th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Guidelines when attempting to engage communication with someone who has the potential to become aggres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 your CAR (Calm,Aware,Respectf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one-on-one (minimize distr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is everything (be pro-ac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advice or quick fi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empathetic statements whe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choice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ur-Step Counsel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Say what you see and/or he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on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judg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bod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3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3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3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Establish the feel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to me like you’re _____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he communication fo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lings drive th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Connect the feeling to the sour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open-end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asking “why”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8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8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4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Plan of Ac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the person in crisis establish a plan of action in getting their needs met in acceptable and safe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wan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can you do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 willing to do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9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9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9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urpose of MindSet Trai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is to facilitat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s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is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hance ski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ultimately certify professionals in a system of preventing and managing aggressiv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Conclusio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afe environments by establishing and implementing prevention and communication strategies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avoid power stru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are proactive vs.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promote choice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and ultimately sets everyone up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5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ower students to fine alternatives to aggression and viol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and commitment from everyone is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C900056947[1]"/>
          <p:cNvPicPr/>
          <p:nvPr/>
        </p:nvPicPr>
        <p:blipFill>
          <a:blip r:embed="rId1"/>
          <a:stretch/>
        </p:blipFill>
        <p:spPr>
          <a:xfrm flipH="1" rot="181200">
            <a:off x="2263320" y="3779640"/>
            <a:ext cx="327204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keys to success for organizations that are attempting to reduce and eliminate instances of seclusion and restra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7924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C900432593[1]"/>
          <p:cNvPicPr/>
          <p:nvPr/>
        </p:nvPicPr>
        <p:blipFill>
          <a:blip r:embed="rId1"/>
          <a:stretch/>
        </p:blipFill>
        <p:spPr>
          <a:xfrm>
            <a:off x="5791320" y="4114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s to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rehensive and clear policy 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aint must be the intervention of last re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must be trained in de-escal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ust be student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of data collection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for organizationa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measuremen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s on student and staff str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Compe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student and staff debrie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vironment that prioritizes student dig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 Punitive measures are not appropriate when dealing with aggressiv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mphasize everyone’s strengths to maximize a saf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 crisis situation is a learning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nsistency is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mpowerment fosters learning and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owerment fosters learning and tru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 is to change th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 the learner at their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the child to be their own risk mana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 Guiding Principle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inciple is defined as a rule or code of con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e Choice and Tr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crisis will choose alternatives to aggressive behavior if given the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r and a sense of powerlessness fuels ag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and opportunities for choice can counteract fear and a sense of helples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 Power Strug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emotions can “Tip the Scale” in a crisi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yourself as an 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lm, aware and respectful before, during and after the crisi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300840"/>
          <p:cNvPicPr/>
          <p:nvPr/>
        </p:nvPicPr>
        <p:blipFill>
          <a:blip r:embed="rId1"/>
          <a:stretch/>
        </p:blipFill>
        <p:spPr>
          <a:xfrm>
            <a:off x="5867280" y="4343400"/>
            <a:ext cx="27291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5:40:00Z</dcterms:created>
  <dc:creator>amanda.aldridge</dc:creator>
  <dc:description/>
  <dc:language>en-US</dc:language>
  <cp:lastModifiedBy>NGEP</cp:lastModifiedBy>
  <dcterms:modified xsi:type="dcterms:W3CDTF">2011-12-01T16:37:45Z</dcterms:modified>
  <cp:revision>3</cp:revision>
  <dc:subject/>
  <dc:title>What is MindSet?</dc:title>
</cp:coreProperties>
</file>