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75A9-B6E0-42DD-8619-DF8E9E3A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2E71-178A-40C8-B4A0-33A6C440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0C43-5A31-40B9-A198-7B59027D1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2C6F-AE9F-4E83-90D3-A79B5B936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2512-8F4E-4337-829E-61CAEFE2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641C-6D12-4505-AA3B-AFBFC8EC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72F4-C26A-401D-A300-48366B17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AAEC-16FA-4B88-B7EF-9CED34CC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8EC2-A1CF-41DC-B194-2F7ECF3D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5679-55B5-4DF2-BD46-6605DF99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BB51-A80B-4D5A-938E-1C605B60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C9C8-FC76-4ACF-A5D4-4DEB32AB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2EFF-98B1-4BFF-9EBE-ECF5B0DE1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MindS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a training curriculum that is efficient and effective in creating and maintaining the safest possible environment, both emotionally and physically, for everyone invol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ek Pro-Action vs. Re-A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 is essential in effectively managing a crisis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good judgment in not under reacting or over rea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eachers/staff and students should develop specific pro-action strategies relative to creating a saf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t-up Everyone For Succes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chieve a “culture of prevention”, everyone involved must establish and implement “customized strategies” for creating safe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and teamwork are essential ingred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must be empowered to become their own risk mana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n Steps for Defeating Bias and Overcoming Resist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emotional instead of emotional requests (control your bi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ve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use a question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a safe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eye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request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one of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to co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tart requests than stop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e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sis Communic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sis is defined as a decisive or critical mo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skills, both verbal and nonverbal, are your most powerful tools for preventing aggressive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ust remain calm, aware and respectful at times when it can be difficult to accomplish just on of the th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551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Guidelines when attempting to engage communication with someone who has the potential to become aggress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in your CAR (Calm,Aware,Respectfu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one-on-one (minimize distra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 is everything (be pro-ac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advice or quick fi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empathetic statements whe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 choice and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our-Step Counseli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“Say what you see and/or he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oncr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judg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body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3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3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3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3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3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3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3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2: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“Establish the feel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ms to me like you’re _____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the communication foc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lings drive the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3: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“Connect the feeling to the sour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open-ended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asking “why”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8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8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8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8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8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8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4: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“Plan of Ac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the person in crisis establish a plan of action in getting their needs met in acceptable and safe 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want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lse can you do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you willing to do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9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9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9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9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9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Purpose of MindSet Trai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is to facilitat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sigh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is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hance ski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ultimately certify professionals in a system of preventing and managing aggressive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Conclusion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safe environments by establishing and implementing prevention and communication strategies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avoid power strug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are proactive vs. re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promote choice and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and ultimately sets everyone up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4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4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0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5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0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5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0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ower students to fine alternatives to aggression and viol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and commitment from everyone is ess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MC900056947[1]"/>
          <p:cNvPicPr/>
          <p:nvPr/>
        </p:nvPicPr>
        <p:blipFill>
          <a:blip r:embed="rId1"/>
          <a:stretch/>
        </p:blipFill>
        <p:spPr>
          <a:xfrm flipH="1" rot="181200">
            <a:off x="2263320" y="3779640"/>
            <a:ext cx="3272040" cy="25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8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8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8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8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42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keys to success for organizations that are attempting to reduce and eliminate instances of seclusion and restrai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304920"/>
            <a:ext cx="79246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MC900432593[1]"/>
          <p:cNvPicPr/>
          <p:nvPr/>
        </p:nvPicPr>
        <p:blipFill>
          <a:blip r:embed="rId1"/>
          <a:stretch/>
        </p:blipFill>
        <p:spPr>
          <a:xfrm>
            <a:off x="5791320" y="41148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s to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rehensive and clear policy 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aint must be the intervention of last re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 must be trained in de-escala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must be student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ystem of data collection an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for organizational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measuremen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s on student and staff str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al Compe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student and staff debrie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nvironment that prioritizes student dig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4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4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4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 Punitive measures are not appropriate when dealing with aggressive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Emphasize everyone’s strengths to maximize a saf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 crisis situation is a learning opport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onsistency is ess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Empowerment fosters learning and tr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powerment fosters learning and trus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al is to change the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age the learner at their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the child to be their own risk mana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 Guiding Principle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inciple is defined as a rule or code of con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ote Choice and Tr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in crisis will choose alternatives to aggressive behavior if given the opport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r and a sense of powerlessness fuels ag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st and opportunities for choice can counteract fear and a sense of helpless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oid Power Strug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emotions can “Tip the Scale” in a crisis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yourself as an 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alm, aware and respectful before, during and after the crisis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j0300840"/>
          <p:cNvPicPr/>
          <p:nvPr/>
        </p:nvPicPr>
        <p:blipFill>
          <a:blip r:embed="rId1"/>
          <a:stretch/>
        </p:blipFill>
        <p:spPr>
          <a:xfrm>
            <a:off x="5867280" y="4343400"/>
            <a:ext cx="27291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15:40:00Z</dcterms:created>
  <dc:creator>amanda.aldridge</dc:creator>
  <dc:description/>
  <dc:language>en-US</dc:language>
  <cp:lastModifiedBy>NGEP</cp:lastModifiedBy>
  <dcterms:modified xsi:type="dcterms:W3CDTF">2011-12-01T16:37:45Z</dcterms:modified>
  <cp:revision>3</cp:revision>
  <dc:subject/>
  <dc:title>What is MindSet?</dc:title>
</cp:coreProperties>
</file>