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990-E274-424A-BF36-3AF0A7CB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620-6E6A-4E5F-8941-E1CC0F46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8C4-5323-4E54-A823-BB61009A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098-CEA4-4545-8C94-64A109A5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774-A95D-4822-9D30-5FA29E81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2D2-47FD-4944-850E-8C74410C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0B5-EEBB-4E03-85CA-D6DFB55A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626-4B01-4BE2-98F5-65B3DC22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7E0-C0CE-40D6-8AE9-089A0BD7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057-BC53-4B5D-9575-0858B128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0EF-DE1D-4A3D-A046-090581D8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492-4665-4A92-B7AF-7C2BE669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8767-2710-45DA-B9F4-0B43BBBCB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indS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training curriculum that is efficient and effective in creating and maintaining the safest possible environment, both emotionally and physically, for everyon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Pro-Action vs. Re-A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essential in effectively managing a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ood judgment in not under reacting or over re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chers/staff and students should develop specific pro-action strategies relative to creating a saf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-up Everyone For Succ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chieve a “culture of prevention”, everyone involved must establish and implement “customized strategies” for creating saf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nd teamwork are essential 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be empowered to become their own risk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 Steps for Defeating Bias and Overcoming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emotional instead of emotional requests (control your b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v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a question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 saf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reques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one of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co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art requests than stop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sis Commun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is is defined as a decisive or critical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kills, both verbal and nonverbal, are your most powerful tools for preventing aggressiv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remain calm, aware and respectful at times when it can be difficult to accomplish just on of the th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Guidelines when attempting to engage communication with someone who has the potential to become aggre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 your CAR (Calm,Aware,Respect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one-on-one (minimize distr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everything (be pro-a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dvice or quick 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mpathetic statements whe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hoice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ur-Step Counsel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Say what you see and/or he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judg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bod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Establish the fee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 me like you’re _____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e communication 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ings drive th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Connect the feeling to the sour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open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sking “why”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8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Plan of A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the person in crisis establish a plan of action in getting their needs met in acceptable and safe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wan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you d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 willing to d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9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9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9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MindSet Trai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is to facilita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is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hance ski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ultimately certify professionals in a system of preventing and managing aggressiv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Conclusio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afe environments by establishing and implementing prevention and communication strategie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avoid power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re proactive vs.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promote choice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and ultimately sets everyone up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ower students to fine alternatives to aggression and vio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nd commitment from everyone is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C900056947[1]"/>
          <p:cNvPicPr/>
          <p:nvPr/>
        </p:nvPicPr>
        <p:blipFill>
          <a:blip r:embed="rId1"/>
          <a:stretch/>
        </p:blipFill>
        <p:spPr>
          <a:xfrm flipH="1" rot="181200">
            <a:off x="2263320" y="3779640"/>
            <a:ext cx="327204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keys to success for organizations that are attempting to reduce and eliminate instances of seclusion and restra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900432593[1]"/>
          <p:cNvPicPr/>
          <p:nvPr/>
        </p:nvPicPr>
        <p:blipFill>
          <a:blip r:embed="rId1"/>
          <a:stretch/>
        </p:blipFill>
        <p:spPr>
          <a:xfrm>
            <a:off x="5791320" y="4114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s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rehensive and clear policy 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aint must be the intervention of last re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must be trained in de-escal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ust be stud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data collection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for organization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easurem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student and staff 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student and staff debrie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vironment that prioritizes student dig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Punitive measures are not appropriate when dealing with aggressiv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mphasize everyone’s strengths to maximize a saf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 crisis situation is a learning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istency is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mpowerment fosters learning and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owerment fosters learning and tru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is to change th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the learner at their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the child to be their own risk mana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Guiding Principle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nciple is defined as a rule or code of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e Choice and T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crisis will choose alternatives to aggressive behavior if given the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r and a sense of powerlessness fuels ag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and opportunities for choice can counteract fear and a sense of help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Pow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emotions can “Tip the Scale” in a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yourself as an 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lm, aware and respectful before, during and after the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300840"/>
          <p:cNvPicPr/>
          <p:nvPr/>
        </p:nvPicPr>
        <p:blipFill>
          <a:blip r:embed="rId1"/>
          <a:stretch/>
        </p:blipFill>
        <p:spPr>
          <a:xfrm>
            <a:off x="5867280" y="4343400"/>
            <a:ext cx="2729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5:40:00Z</dcterms:created>
  <dc:creator>amanda.aldridge</dc:creator>
  <dc:description/>
  <dc:language>en-US</dc:language>
  <cp:lastModifiedBy>NGEP</cp:lastModifiedBy>
  <dcterms:modified xsi:type="dcterms:W3CDTF">2011-12-01T16:37:45Z</dcterms:modified>
  <cp:revision>3</cp:revision>
  <dc:subject/>
  <dc:title>What is MindSet?</dc:title>
</cp:coreProperties>
</file>