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4BD-D919-45EA-B710-00F1E6A1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7D8-6709-4C1D-BEA4-D1421C59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533-087C-4336-ADFD-CA382112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F39-B61F-418C-9A1B-5C7F1E1F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F4B-30E1-4BF9-810A-F312B9C8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27C-6CE7-4945-9C9F-6783588B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07B-5C03-46CE-AC96-EDF06F7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25D-3442-4B39-A708-2167A9DA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378-46F3-44E0-9B7E-37933622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E8D-A277-402D-88A7-86F6D77B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F94-8CA0-47E2-92F6-77C311DC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B3A-2C99-4C17-8550-C21C9CC0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8292-E58B-4A3D-98D3-C8216E4B6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ind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training curriculum that is efficient and effective in creating and maintaining the safest possible environment, both emotionally and physically, for everyon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Pro-Action vs. Re-A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ssential in effectively managing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ood judgment in not under reacting or over rea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eachers/staff and students should develop specific pro-action strategies relative to creating a saf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-up Everyone For Suc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hieve a “culture of prevention”, everyone involved must establish and implement “customized strategies” for creating saf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teamwork are essential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ust be empowered to become their own risk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 Steps for Defeating Bias and Overcoming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emotional instead of emotional requests (control your b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a question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 saf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reques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one of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rt requests than stop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sis Commun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is is defined as a decisive or critical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, both verbal and nonverbal, are your most powerful tools for prevent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main calm, aware and respectful at times when it can be difficult to accomplish just on of the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Guidelines when attempting to engage communication with someone who has the potential to become aggr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 your CAR (Calm,Aware,Respectf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one-on-one (minimize distr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everything (be pro-ac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dvice or quick 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mpathetic statements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ur-Step Counsel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Say what you see and/or he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judg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bod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3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Establish the feel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to me like you’re ____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communication fo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ings drive th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Connect the feeling to the sour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sking “why”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“Plan of A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the person in crisis establish a plan of action in getting their needs met in acceptable and saf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wan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you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 willing to do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9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MindSet Trai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is to facilitat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s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is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hance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ultimately certify professionals in a system of preventing and managing aggressiv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Conclusio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afe environments by establishing and implementing prevention and communication strategie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avoid power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re proactive vs.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promote choice and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and ultimately sets everyone up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ower students to fine alternatives to aggression and vio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and commitment from everyone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C900056947[1]"/>
          <p:cNvPicPr/>
          <p:nvPr/>
        </p:nvPicPr>
        <p:blipFill>
          <a:blip r:embed="rId1"/>
          <a:stretch/>
        </p:blipFill>
        <p:spPr>
          <a:xfrm flipH="1" rot="181200">
            <a:off x="2263320" y="3779640"/>
            <a:ext cx="32720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keys to success for organizations that are attempting to reduce and eliminate instances of seclusion and restra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7924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900432593[1]"/>
          <p:cNvPicPr/>
          <p:nvPr/>
        </p:nvPicPr>
        <p:blipFill>
          <a:blip r:embed="rId1"/>
          <a:stretch/>
        </p:blipFill>
        <p:spPr>
          <a:xfrm>
            <a:off x="579132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s to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rehensive and clear policy 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aint must be the intervention of last re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must be trained in de-escal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stud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data collect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organization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easurem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student and staff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C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student and staff debrie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vironment that prioritizes student dig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Punitive measures are not appropriate when dealing with aggressive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hasize everyone’s strengths to maximize a 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crisis situation is a learning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istency is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mpowerment fosters learning and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owerment fosters learning and trus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is to change th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the learner at thei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the child to be their own risk mana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Guiding Principle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inciple is defined as a rule or code of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e Choice and Tr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crisis will choose alternatives to aggressive behavior if given the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 and a sense of powerlessness fuels ag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and opportunities for choice can counteract fear and a sense of helples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Pow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emotions can “Tip the Scale” in a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yourself as an 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lm, aware and respectful before, during and after the crisi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00840"/>
          <p:cNvPicPr/>
          <p:nvPr/>
        </p:nvPicPr>
        <p:blipFill>
          <a:blip r:embed="rId1"/>
          <a:stretch/>
        </p:blipFill>
        <p:spPr>
          <a:xfrm>
            <a:off x="5867280" y="4343400"/>
            <a:ext cx="2729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5:40:00Z</dcterms:created>
  <dc:creator>amanda.aldridge</dc:creator>
  <dc:description/>
  <dc:language>en-US</dc:language>
  <cp:lastModifiedBy>NGEP</cp:lastModifiedBy>
  <dcterms:modified xsi:type="dcterms:W3CDTF">2011-12-01T16:37:45Z</dcterms:modified>
  <cp:revision>3</cp:revision>
  <dc:subject/>
  <dc:title>What is MindSet?</dc:title>
</cp:coreProperties>
</file>